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8B2-A18D-4B34-8C50-CFE7B73B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2E6-2C51-46F0-8F50-3ECC043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AE925-BF09-4F48-8E4F-4119D89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454CA-496B-4E78-8295-B659DF7E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87DEE-DED2-43F2-962D-DC51EFE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E12AD-6CB1-4B01-9244-472FE7F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EFAE2-10B7-476B-B801-3171743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80746-B013-40EA-B802-84DADF4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C69F3-760E-4A88-831A-BDA4FED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49026-961A-4BDB-8E5F-0EDA1260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51E2C-5BE5-4D27-A454-8A27A20B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41224-4550-445A-8452-A06A64B7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2AB-0179-40A4-A5EE-10E10512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0B9F1-2DC6-49EE-B60D-658BF6B4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25E81-0667-4EF7-9A19-061B0FF2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05F8-D042-4301-A840-373D11C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D883A-825C-41DB-B9BC-7C1B5A6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E0A4-BD34-49BC-AAFF-994341D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F3ED6-DBF6-4560-A1B4-6A96793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E9436-0894-407E-836F-3CF014B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31B8F-F54D-47B8-B5CC-EFCE608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328C1-71E5-4AA4-90D0-B12122A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4A1A8-1621-42C4-A124-E4EE1B82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766-05D8-4ABA-B070-35163AC1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267CD-A73C-45B0-B7C0-84E4906B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92E-792F-429D-B0AF-E842F963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7DCC-D2FF-452F-80BF-C7DBCE6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810-5C04-4B77-8791-DD25890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3F8-3443-41A6-B2DF-98CF685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A7B-CB44-4266-8510-259453B2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9BF-FC6F-4F64-80AA-CB485BF4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CCEC-5A83-4416-8E06-BE08709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FFE-FF1C-4D89-92FB-DA47C580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5D1-A327-4518-98FA-1AE2B520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026D-34DF-420C-85ED-16DC4D0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F11-56B8-4C02-AF81-2FEF4042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F8BC-5ACA-4572-B198-A6A4C1D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F2F6-E677-416C-8357-F962E87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09F6-F2D9-4596-9D42-DC78AD5B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C69E-E6D8-46AE-8B39-16A56779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BA10-73F1-4BAA-950A-90A9D39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F726-EBF2-4432-9648-13A52550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D9E8-D087-4BCE-8D9C-DD460B75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312-08D1-43CB-8875-F6D06A8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E289-7669-4EDA-8403-45C731AF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2D02-FDD2-4474-A516-220A045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347D-B88B-4C61-8123-A6DF7C7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FDB3-8B49-4C34-B3F5-DD83B73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C588-CDBC-42DB-83E6-AF692E4D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5E7E-3A0B-4998-8727-3EE0C3E3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EAF0-EE1C-46FD-8D9A-577A96D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F67C-FB84-41F8-B3EB-709BB4F9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AC4B-6BC6-445E-8B25-07BC3ED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4C81-A6D3-47A5-A0D6-ED2FEE2F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0D7-2970-48CB-980A-55E88B67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0438-05D3-4994-8672-92935C1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CFAF-F050-41D2-9485-4A5AD4FA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D9E8-E09F-4ADF-9CA2-EDDCBC98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77C3-87EF-4652-A3D2-3B9165C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7FBA6-725F-4064-8EBF-CE34F33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D44F-144A-4526-AB06-DF06B08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0DBC-D42C-4661-A33B-A47B9BEA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E3C9-BB0B-44F8-B750-D17105F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9609-C7D9-4855-ADF3-14F85F41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7BB1-00D7-430E-9D88-2467EAA9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0A0-D1A6-44BD-8FBF-A5BED573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E242-6007-47CB-A555-54E1D6F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0029-6DEE-4B53-85B9-08E0B12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1B79-3542-4764-ADEB-7E72EB4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CE94-B0F7-48A5-AB57-139E789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D8FA-0BE3-4DD9-86AD-13A1DFDE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47F9-3FCB-4B26-9F67-444C913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EC5A-26DA-455B-B6C0-B746D234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D2DB-4AF2-4C3C-9E7B-B6B83D1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E9DF-E191-4295-B3B4-3886D42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4EDC-F2DB-4528-B7C8-7E1380E4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672-3F92-4BCE-B1CD-1998B859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0F8C-62A3-4031-93A8-1DBD571B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67C03-34CB-4480-9209-27E6C0BA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0511F-7D79-469E-B894-021FF9C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2C450-D199-49C0-9BD1-8DDA57B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AEF10-7612-4C94-ABE9-D36A526E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F05E3-2549-402C-8CC4-B2B2A3F5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8E766-EA3F-4C06-8FD6-2E253A1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48B38-39D3-4231-BB31-FA9526A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A5823-8B16-4027-A12E-EC4AC80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DC60B-B008-4DB4-9EEF-5D0D672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4F6-913B-49D8-B859-DAAECA8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52165-0BC6-47D6-8FB0-F6B54ED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19B0E-6708-4ACA-8E52-62BB5914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E5813-F6C4-4031-B365-C20822BD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0EED-DCBA-40C0-967E-54442E19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B21B-A39D-490D-86B5-706D002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5A8E-3A23-46CD-A042-E1052A5C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A460E-6CC8-4078-B1C1-20CF1E5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8A7F-408D-4C63-AADB-8F6943C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C8675-DAA1-470C-B396-710A102F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9F85-7B22-4F41-ACC1-D4F4FC4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90A-3BD8-4598-BC73-DF8B5D3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85BB-3F07-4C3C-AF46-78BF66ED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6C243-6A68-40C3-A20D-DB1274C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3741-525D-44A2-947D-3D8FD95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0A91-F638-4683-A917-97BE1D4B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585B-D3DC-4A62-8997-07851B9D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18B3-FDFC-4A49-AD7B-D45AA532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9BB85-826A-4EFD-B164-B76E11B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69A4-A3E8-429B-BE3C-386541D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B6CB-3604-4825-90E7-320E0BA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EE4D-CA76-466D-A5DD-5E8F8FF3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2C8-E57C-44C1-8051-1D2CB08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7D2E-0619-4A45-B62A-DEB0CB5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119D1-742C-46B0-8373-14FCFFA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143D-ADC2-4DA5-B899-FA48F5F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F8CA3-F3BF-41EA-9930-DBF62AF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61EF0-54FA-40DA-8B65-29255E4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05DA-DC1D-4BB3-9615-0380AF60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4ABA-374B-4D78-B4D9-5714B8BC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C676F-1E8B-44E0-944D-E34B9DC4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64DE-5E6B-422A-AEDA-9B39DB1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25D0C-BB7C-4723-90E2-463E38A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988-2780-406F-A522-C0593E28FC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C2C-4593-415C-810D-743380F161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05E-7E75-416D-BD61-998723471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44C6-29E4-42F4-98D1-6250344A033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DE6D-B6F6-4C45-8CCC-82808B78BE1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DC7-99FB-4D6C-9F06-539D462FF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9284-5B5F-45B1-B0BE-78C6FFF79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DB55-F46B-431A-AB5A-4B4F6A3902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905A-6018-4064-8425-8579075B33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E9B-65A1-480E-AFE5-EE1C8163CE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Jocelyn Dav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learning style is visual learn that means that I by reading ,watching ,viewing inform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 I am strongly left-brain dominate and that I like to have things in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mispheres of my br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found out that the left hemisphere of my brain I am a sequential thinker and methodi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intelligence type is creative intellig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like to create all forms of art, able to express ideas without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important to learn how your brain works because then you know the sides that you are and that you need to exercise it to learn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body has their own way of thinking outside the box or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 Can Use My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use what I have learned about the way my brain works in school. I can do this when I do art projects and to do my work properly. To show off my smartness when answering a ques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0:43Z</dcterms:created>
  <dc:creator>student</dc:creator>
  <dc:description/>
  <dc:language>en-US</dc:language>
  <cp:lastModifiedBy>student</cp:lastModifiedBy>
  <dcterms:modified xsi:type="dcterms:W3CDTF">2010-11-23T16:03:48Z</dcterms:modified>
  <cp:revision>6</cp:revision>
  <dc:subject/>
  <dc:title>My Personal Learning Profile</dc:title>
</cp:coreProperties>
</file>